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889-3982-4B08-B607-D09E07D2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647-2C56-4D63-A1FC-F2CAB9DE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89C-5A39-462C-8B2D-344AFF86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C84-03EB-4CEB-8BB2-8D44FDA6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40C-5B7E-4E01-82AA-7CD05E73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09C-4516-454C-9D0F-0E9696FB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FDA-E22B-4267-B892-33807D9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A51-1180-48EC-86E5-DFC3FAD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F53-2AF1-4549-B542-4F7C9A2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80D-9480-4CE7-B448-E1DB51BD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0B9-D80E-4B15-8FCE-5AC432F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AD9-5A5E-4708-804C-84059EC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EF4-FDB6-44D2-B47B-D695D8EAC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genda Nov.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No Homewor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utline map Middle East"/>
          <p:cNvPicPr/>
          <p:nvPr/>
        </p:nvPicPr>
        <p:blipFill>
          <a:blip r:embed="rId1"/>
          <a:stretch/>
        </p:blipFill>
        <p:spPr>
          <a:xfrm>
            <a:off x="1895400" y="1219320"/>
            <a:ext cx="724860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0" y="1066680"/>
            <a:ext cx="1905120" cy="588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cus 11-11-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ame the Coun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at is the small island country located in the Persian Gulf called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0866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562720" y="4876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502920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5720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22860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Afgan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2514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28600" y="28954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U.A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286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Qa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286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22"/>
          <p:cNvCxnSpPr/>
          <p:nvPr/>
        </p:nvCxnSpPr>
        <p:spPr>
          <a:xfrm flipV="1">
            <a:off x="5256720" y="4799880"/>
            <a:ext cx="15300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24"/>
          <p:cNvCxnSpPr/>
          <p:nvPr/>
        </p:nvCxnSpPr>
        <p:spPr>
          <a:xfrm flipV="1">
            <a:off x="4799520" y="4141440"/>
            <a:ext cx="91080" cy="257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TextBox 27"/>
          <p:cNvSpPr/>
          <p:nvPr/>
        </p:nvSpPr>
        <p:spPr>
          <a:xfrm>
            <a:off x="228600" y="5029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>
            <a:off x="3962520" y="228600"/>
            <a:ext cx="304776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out a blue or black pen for the Map te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609480" y="117360"/>
            <a:ext cx="81536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Keep RED privacy tents up until All have turned in their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When you are finished with the test you must finish and turn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heet -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d Reading 4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you may do any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Play any games on netbooks, (b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rry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 music stations.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Googl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Read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Color the geo-desig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ing sheets on the front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lovepics.co.cc/data/2011-05-18/animated-gif.jpg"/>
          <p:cNvPicPr/>
          <p:nvPr/>
        </p:nvPicPr>
        <p:blipFill>
          <a:blip r:embed="rId2"/>
          <a:stretch/>
        </p:blipFill>
        <p:spPr>
          <a:xfrm>
            <a:off x="5562720" y="4267080"/>
            <a:ext cx="1885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3:02:53Z</dcterms:created>
  <dc:creator>poweruser</dc:creator>
  <dc:description/>
  <dc:language>en-US</dc:language>
  <cp:lastModifiedBy>poweruser</cp:lastModifiedBy>
  <dcterms:modified xsi:type="dcterms:W3CDTF">2011-11-14T13:48:16Z</dcterms:modified>
  <cp:revision>7</cp:revision>
  <dc:subject/>
  <dc:title>Slide 1</dc:title>
</cp:coreProperties>
</file>